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3A18-5E5A-427B-A1EE-FCC57FEC16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A5D9-71A4-4272-85B1-CA66B250BA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9B48-0319-4FDB-BAC0-595A2B12F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634D-26C1-450C-B671-40E3CD3407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D08D-E8C7-4C79-902A-75A782BAC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414C-ACD9-4D0B-9F83-9A064EBFCD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9E42-F5D8-41D5-AB14-0D9838C58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AB3-48CB-4C24-9E7F-8A7FF683C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uld include a variety of formal and informal assessments done throughout the un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1675-D30E-46B1-928C-5FDC58E87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ive is scored by rubr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9BCE-BA20-43CD-8554-D83620159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for each new topic or skill. Copy and paste a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DF98-F2BB-4951-A122-08E1E62CB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and paste as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3943-10BE-46A6-B280-E806B3352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A8A8-EA5D-40D5-BA89-D4A822A10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C4D7-3E32-48FF-83EB-562A33B2B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ption for a creativ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AFBC-A11B-4897-AC42-23A188C5D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727-6AA4-4095-B1CB-2962645B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F72-A535-4E20-8210-512907A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491-1E56-45D2-8DF1-7B7AA899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DDB-8919-4822-BD53-4A24D23C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C695-8A4A-42C2-B73C-06C3AC4A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9C4F-EFF2-46C7-A1A4-2E5C2417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7C92-BB98-406F-B101-F15DBBF8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9CE5-77A3-4163-B542-CFE167EE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5EB9-1952-42AA-8D46-69F0C941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2C3D-6C7F-4BEC-BA7F-425996D8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48DD-7653-4550-A6C7-17FB3658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DE1-4373-4EAA-9F61-177CD0DD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1EFE-C367-43A3-BC97-F73A0FB2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E69-6285-4A84-946B-B699A81E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DFE1-AD66-4190-94F1-3D833E7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7FEC-69F9-4F0F-A1AD-0DAB259D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7582-77AD-4405-9C43-F7481A9A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B9935-1753-481B-8B6B-21058C3B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316328-A232-4F10-8314-29BD13FA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5A18F-5309-47B1-854C-7E150362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0CAB1-B5BC-4DA2-BBF2-219E25CC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B13C4A-4BDD-44D9-8DD6-4C9C271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CC6-1E24-4CAB-9988-57EAF996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C53BE-C861-47B8-BCBD-C6EBC2EA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7F216-54EC-423B-B162-74B6DB3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132DE-3EDC-4293-8BE2-392E20EF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487A0-C511-46B3-BCED-DE8EA0E5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FE797-9DC4-49E9-8286-B78BBD6E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5194C-484E-48CA-A50F-7742B002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8A695-36ED-4D5E-A385-3930A443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B9B95-EDE4-47E7-8600-F6E5638C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B4934-967C-46A3-B745-A95C61CE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DCBBE-5FEF-42C0-B874-559CDE68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EFC-E57B-4A0B-B05C-4C4BE32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830CC-667C-4AAF-AD0F-515F55BE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2C3E-6055-4330-84AF-55FB036C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573C-1911-42AC-98AC-1A5245EE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DE9DB-2034-496E-855C-4E1E07F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926BA-D44F-4C03-A6D1-CA585DE0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5F59D-6A42-4697-A1C0-31E82323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58DE4-463D-4554-B2AD-EB3EB58A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48080-C12A-44F3-967A-B518B24B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B1BF-BF3C-435A-A8DB-8B097ECC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796-82D0-4658-80CB-A67F8865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AEC-F644-4DBA-A0FE-A2D8A7B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086F-BEEF-4D9B-9C7D-615249C6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735D-A5E8-48EE-B8C4-1572EA3D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104-933A-460F-9872-B578C58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4549-9732-4FE3-A4A2-CD63FC9A4D9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8CE1-FBCE-4C07-AE53-FFC590D4271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522-5C92-45B2-9AAD-3517A0D7940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82F6-34C0-4DDB-A0D5-1132A693DFED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999000" y="1066680"/>
            <a:ext cx="2108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Verdana"/>
              </a:rPr>
              <a:t>Unit Titl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Straight Connector 5"/>
          <p:cNvSpPr/>
          <p:nvPr/>
        </p:nvSpPr>
        <p:spPr>
          <a:xfrm>
            <a:off x="304920" y="1752480"/>
            <a:ext cx="8229600" cy="0"/>
          </a:xfrm>
          <a:prstGeom prst="line">
            <a:avLst/>
          </a:prstGeom>
          <a:ln cap="rnd" w="28440">
            <a:solidFill>
              <a:srgbClr val="3e3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6049440" y="1905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thor nam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6049440" y="2362320"/>
            <a:ext cx="171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thor schoo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6131520" y="2819520"/>
            <a:ext cx="149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rad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762120"/>
          <a:ext cx="8610480" cy="579096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4334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0713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72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152280" y="914400"/>
          <a:ext cx="8763120" cy="5715000"/>
        </p:xfrm>
        <a:graphic>
          <a:graphicData uri="http://schemas.openxmlformats.org/drawingml/2006/table">
            <a:tbl>
              <a:tblPr/>
              <a:tblGrid>
                <a:gridCol w="2190960"/>
                <a:gridCol w="2190600"/>
                <a:gridCol w="2190960"/>
                <a:gridCol w="2190600"/>
              </a:tblGrid>
              <a:tr h="291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op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28600" y="762120"/>
          <a:ext cx="8686800" cy="5867280"/>
        </p:xfrm>
        <a:graphic>
          <a:graphicData uri="http://schemas.openxmlformats.org/drawingml/2006/table">
            <a:tbl>
              <a:tblPr/>
              <a:tblGrid>
                <a:gridCol w="1736640"/>
                <a:gridCol w="1738440"/>
                <a:gridCol w="1736640"/>
                <a:gridCol w="1736640"/>
                <a:gridCol w="1738440"/>
              </a:tblGrid>
              <a:tr h="299880"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o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it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5440" rIns="554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es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</a:tr>
              <a:tr h="1112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28600" y="762120"/>
          <a:ext cx="8610480" cy="5867280"/>
        </p:xfrm>
        <a:graphic>
          <a:graphicData uri="http://schemas.openxmlformats.org/drawingml/2006/table">
            <a:tbl>
              <a:tblPr/>
              <a:tblGrid>
                <a:gridCol w="2043000"/>
                <a:gridCol w="2125800"/>
                <a:gridCol w="2225520"/>
                <a:gridCol w="2216160"/>
              </a:tblGrid>
              <a:tr h="482400">
                <a:tc gridSpan="4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hink-Tac-T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opic 1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opic 2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5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opic 3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2"/>
          <p:cNvSpPr/>
          <p:nvPr/>
        </p:nvSpPr>
        <p:spPr>
          <a:xfrm>
            <a:off x="380880" y="1066680"/>
            <a:ext cx="8458200" cy="46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Be a Student Leader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elp your fellow classmates! Create a product that goes along with our current unit that will help other students understand and learn about the topic(s)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ossible products include: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ake a bulletin board or poster highlighting important facts about each topi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roduce an audio/visual podcast or PowerPoint slide show highlighting important facts (with examples) about each topi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reate a web page, web log, or wiki that students can use as a learning/study resou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ake a “…for Dummies” book, providing examples and practice (with answer key) that other students can use as a resourc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ake a skit/commercial advertising a special problem-solving strateg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Invent a game that teaches important concepts to the play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Write a song to help students remember important points (you will be asked to perform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reate your own idea and get teacher permission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Straight Connector 3"/>
          <p:cNvSpPr/>
          <p:nvPr/>
        </p:nvSpPr>
        <p:spPr>
          <a:xfrm>
            <a:off x="380880" y="1523880"/>
            <a:ext cx="8229600" cy="0"/>
          </a:xfrm>
          <a:prstGeom prst="line">
            <a:avLst/>
          </a:prstGeom>
          <a:ln cap="rnd" w="28440">
            <a:solidFill>
              <a:srgbClr val="3e3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304920" y="838080"/>
          <a:ext cx="8534160" cy="579132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-Century Learning/Technology/Workplace CSOs Address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udent misconceptions to watch fo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oss-curricular integra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echnology Usag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Vocabulary Developed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57600" rIns="57600" tIns="57600" bIns="576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eacher notes/reflectio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ctr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57600" rIns="57600" tIns="57600" bIns="57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600" marR="57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52280" y="914400"/>
          <a:ext cx="8763120" cy="5567400"/>
        </p:xfrm>
        <a:graphic>
          <a:graphicData uri="http://schemas.openxmlformats.org/drawingml/2006/table">
            <a:tbl>
              <a:tblPr/>
              <a:tblGrid>
                <a:gridCol w="4456080"/>
                <a:gridCol w="4307040"/>
              </a:tblGrid>
              <a:tr h="42696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age 1 – Identify Desired Res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44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stablished Goal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[What relevant goals (CSOs, course objectives, learning outcomes) will be addressed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736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Understandings: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ents will understand that…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Essential Question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1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364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ents will know..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Verdana"/>
                        </a:rPr>
                        <a:t>Students will be able to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914400"/>
          <a:ext cx="8763120" cy="5505480"/>
        </p:xfrm>
        <a:graphic>
          <a:graphicData uri="http://schemas.openxmlformats.org/drawingml/2006/table">
            <a:tbl>
              <a:tblPr/>
              <a:tblGrid>
                <a:gridCol w="4456080"/>
                <a:gridCol w="4307040"/>
              </a:tblGrid>
              <a:tr h="42696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age 2 – Determine Acceptable Evid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852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erformance Tasks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hrough what authentic tasks will students demonstrate understanding?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By what criteria will performances of understanding be judged?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Other Evidenc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hrough what other evidence will students demonstrate achievement?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228600" y="838080"/>
          <a:ext cx="8686800" cy="5908680"/>
        </p:xfrm>
        <a:graphic>
          <a:graphicData uri="http://schemas.openxmlformats.org/drawingml/2006/table">
            <a:tbl>
              <a:tblPr/>
              <a:tblGrid>
                <a:gridCol w="1736640"/>
                <a:gridCol w="6950160"/>
              </a:tblGrid>
              <a:tr h="427320">
                <a:tc gridSpan="2"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age 3 – Plan Learning Exercises and 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5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act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udents will show what they already know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Pre-Test or hands-on demonstration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echa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We will address deficiencies in vocabulary, knowledge and skills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Individual or small-group instruction – practice sheets, games, graphic organizer, manipulatives, etc.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ofici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udents will prove their proficiency of this skill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Teacher questioning, hands-on demonstration, review, explain/discuss/defend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e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Calibri"/>
                        </a:rPr>
                        <a:t>Only after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 proving their proficiency, students will apply and extend what they know b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authentic tasks and projects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st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Post-test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228600" y="762120"/>
          <a:ext cx="8686800" cy="5376600"/>
        </p:xfrm>
        <a:graphic>
          <a:graphicData uri="http://schemas.openxmlformats.org/drawingml/2006/table">
            <a:tbl>
              <a:tblPr/>
              <a:tblGrid>
                <a:gridCol w="1747800"/>
                <a:gridCol w="6939000"/>
              </a:tblGrid>
              <a:tr h="500040">
                <a:tc gridSpan="2"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cquisition planning form for a topic or skill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ojected duration: [lesson length]                                                   Begin Dat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sential Ques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tivating Strate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284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ach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57240" rIns="57240" tIns="57240" bIns="572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    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fferent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mmarizing Strate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7240" rIns="57240" tIns="57240" bIns="57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7240" marR="57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228600" y="617220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28600" y="762120"/>
          <a:ext cx="8686800" cy="5486400"/>
        </p:xfrm>
        <a:graphic>
          <a:graphicData uri="http://schemas.openxmlformats.org/drawingml/2006/table">
            <a:tbl>
              <a:tblPr/>
              <a:tblGrid>
                <a:gridCol w="1747800"/>
                <a:gridCol w="6939000"/>
              </a:tblGrid>
              <a:tr h="662040">
                <a:tc gridSpan="2"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Non-Acquisition planning form for a topic or skill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ojected duration: [lesson length]                  Begin Date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880"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sential Ques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1880"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ach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60840" rIns="60840" tIns="60840" bIns="60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Box 2"/>
          <p:cNvSpPr/>
          <p:nvPr/>
        </p:nvSpPr>
        <p:spPr>
          <a:xfrm>
            <a:off x="228600" y="632448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Verdana"/>
              </a:rPr>
              <a:t>Materials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28600" y="685800"/>
          <a:ext cx="8686800" cy="5943600"/>
        </p:xfrm>
        <a:graphic>
          <a:graphicData uri="http://schemas.openxmlformats.org/drawingml/2006/table">
            <a:tbl>
              <a:tblPr/>
              <a:tblGrid>
                <a:gridCol w="2171880"/>
                <a:gridCol w="6514920"/>
              </a:tblGrid>
              <a:tr h="399960"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ternbe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signments and Assess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</a:tr>
              <a:tr h="1314720"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naly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how the parts of _________ and how they wor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lain why _______ works the way it do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agram how __________ affects _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dentify the key parts of ____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esent a step-by-step approach to 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760"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ea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emonstrate how someone uses ________ in their life or work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how how we could apply _____ to solve this real life problem 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ased on your own experience, explain how _____ can be use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Here’s a problem at school, ________. Using your knowledge of ______________, develop a plan to address the proble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0160">
                <a:tc>
                  <a:txBody>
                    <a:bodyPr lIns="59040" rIns="59040" tIns="59040" bIns="590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Prac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59040" rIns="59040" tIns="59040" bIns="590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Find a new way to show 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se unusual materials to explain 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se humor to show ________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xplain (show) a new and better way to 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ake connections between _____ and _____ to help us understand 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ecome a ____ and use your “new” perspectives to help us think about ____________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304920" y="762120"/>
          <a:ext cx="8610480" cy="5838840"/>
        </p:xfrm>
        <a:graphic>
          <a:graphicData uri="http://schemas.openxmlformats.org/drawingml/2006/table">
            <a:tbl>
              <a:tblPr/>
              <a:tblGrid>
                <a:gridCol w="2152440"/>
                <a:gridCol w="6458040"/>
              </a:tblGrid>
              <a:tr h="39204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Gardner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signments and Assess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ingui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Word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TV/radio ad, debate, crossword, letters, limericks, similes, speeches, story problems, written instru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Logical-Mathema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Number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ause/effect, charts, coded message, graphic org., mind map, mnemonics, sequences, lab, calculator instru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pa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Picture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odel, book cover, collage, comic strip, flow chart, illustration, mobile, Pictionary, poster, puzzle, Venn dia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Kinesth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Body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Skit or play, charades, dance, games, sign lang., role-play, manipulatives demonstration, video produ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Mus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Music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heer, composition, jingle/melody, music mnemonics, poem, rap, s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erpersona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People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ircle of knowledge, communication game, cooperative product, “each one teach one”, jigsaw, interview, role pl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Intra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(Self-Smar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Diary/journal, personal application scenario, photo essay/slideshow, reflections, summ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838080"/>
          <a:ext cx="8686800" cy="5562720"/>
        </p:xfrm>
        <a:graphic>
          <a:graphicData uri="http://schemas.openxmlformats.org/drawingml/2006/table">
            <a:tbl>
              <a:tblPr/>
              <a:tblGrid>
                <a:gridCol w="2171880"/>
                <a:gridCol w="6514920"/>
              </a:tblGrid>
              <a:tr h="370080"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Bloom’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ssignments and Assess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</a:tr>
              <a:tr h="8697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Crea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film, song, new game, project, plan, media product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Evalua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debate, evaluation, persuasive speech, predict, Venn diagram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naly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graph, survey, mobile, interview, debate,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Apply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pictograph, illustration, simulation, presentation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Underst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summary, show and tell, outline, paraphrase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73080" rIns="73080" tIns="73080" bIns="730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Remembe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d2d6"/>
                    </a:solidFill>
                  </a:tcPr>
                </a:tc>
                <a:tc>
                  <a:txBody>
                    <a:bodyPr lIns="73080" rIns="73080" tIns="73080" bIns="730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  <a:ea typeface="Calibri"/>
                        </a:rPr>
                        <a:t>[quiz, test, definition, worksheet, list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41:40Z</dcterms:created>
  <dc:creator>krberry</dc:creator>
  <dc:description/>
  <dc:language>en-US</dc:language>
  <cp:lastModifiedBy>krberry</cp:lastModifiedBy>
  <dcterms:modified xsi:type="dcterms:W3CDTF">2009-08-06T22:16:21Z</dcterms:modified>
  <cp:revision>13</cp:revision>
  <dc:subject/>
  <dc:title>Slide 1</dc:title>
</cp:coreProperties>
</file>